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6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0A1-E20A-449F-8EF2-A3D1D3FA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1E7-DB31-454B-A3F1-B405525E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1E1-767B-49BF-B9CC-BF90ED33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C16-6538-4E7A-BA37-F48B40F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DCE-0120-4390-A913-0B3B05A1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77D-78C2-42C0-862E-13E9B290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1D0-8B4F-4329-82B6-A51E71B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5AF-0F6F-4AF5-BC45-62E0917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EB6-48C8-4212-9FF1-374D5D33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88F-3972-4EE9-8596-4EFA0C19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D16-9692-4F17-A175-C76A0AA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0C-4135-4DC7-9B88-E1C15CF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AF9-722C-4C67-A817-2809708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1F5-EB66-45A1-B889-9CFBBDE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DC53-CE0A-456E-BFA5-BA14DF6C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gsdigs.com/photos/simple-and-colorful-bathroom-desig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xteriortohomedesign.com/wp-content/uploads/2010/11/beautiful-dining-room-by-cattela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digsdigs.com/photos/teen-room-15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digsdigs.com/photos/light-blue-bahtroom-design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905120" y="457200"/>
            <a:ext cx="5181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Casa de mi Sue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523880" y="5486400"/>
            <a:ext cx="48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r: Olivia Francis-Anspa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FUTURE_Office_Furniture"/>
          <p:cNvPicPr/>
          <p:nvPr/>
        </p:nvPicPr>
        <p:blipFill>
          <a:blip r:embed="rId2"/>
          <a:stretch/>
        </p:blipFill>
        <p:spPr>
          <a:xfrm>
            <a:off x="1981080" y="1219320"/>
            <a:ext cx="4876920" cy="34639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1494000" y="23760"/>
            <a:ext cx="577188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68580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oficina es blanca y negra y muy moderna. No tiene mucho. Tiene un estante, un mesa, un escritorio, y dos sillas. Tambien tiene un portá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digsdigs.com/photos/amazing-poolside-area-designs-2-554x362.jpg"/>
          <p:cNvPicPr/>
          <p:nvPr/>
        </p:nvPicPr>
        <p:blipFill>
          <a:blip r:embed="rId2"/>
          <a:stretch/>
        </p:blipFill>
        <p:spPr>
          <a:xfrm>
            <a:off x="4267080" y="3581280"/>
            <a:ext cx="4648320" cy="303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digsdigs.com/photos/amazing-poolside-area-designs-7-554x389.jpg"/>
          <p:cNvPicPr/>
          <p:nvPr/>
        </p:nvPicPr>
        <p:blipFill>
          <a:blip r:embed="rId3"/>
          <a:stretch/>
        </p:blipFill>
        <p:spPr>
          <a:xfrm>
            <a:off x="228600" y="990720"/>
            <a:ext cx="4191120" cy="29430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6" descr=""/>
          <p:cNvPicPr/>
          <p:nvPr/>
        </p:nvPicPr>
        <p:blipFill>
          <a:blip r:embed="rId4"/>
          <a:stretch/>
        </p:blipFill>
        <p:spPr>
          <a:xfrm>
            <a:off x="1347840" y="-182520"/>
            <a:ext cx="5754600" cy="1206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572000" y="10666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i piscina exterior. La piscina está detrás de mi casa. Es muy muy grande.  Tiene luces azul y blanco, árboles, sillas, y mesas. Tambien tiene un cubi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80880" y="47242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i piscina interior.  Está en mi casa. Está es el primer piso. Tiene luces blanco, sillas, y un sofá naranjo y az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lue Laundry Room Design"/>
          <p:cNvPicPr/>
          <p:nvPr/>
        </p:nvPicPr>
        <p:blipFill>
          <a:blip r:embed="rId1"/>
          <a:stretch/>
        </p:blipFill>
        <p:spPr>
          <a:xfrm>
            <a:off x="304920" y="1371600"/>
            <a:ext cx="5153040" cy="46674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4" descr=""/>
          <p:cNvPicPr/>
          <p:nvPr/>
        </p:nvPicPr>
        <p:blipFill>
          <a:blip r:embed="rId2"/>
          <a:stretch/>
        </p:blipFill>
        <p:spPr>
          <a:xfrm>
            <a:off x="407880" y="-171360"/>
            <a:ext cx="8266320" cy="1098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5791320" y="1676520"/>
            <a:ext cx="297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i cuarto de lavado. Es azul y blanco. Tiene gabinetes azules, un fregadero, un relo verde, un espejo, una lavadora, un secador, y toalles blan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ontemporary-furniture-tv-decorate"/>
          <p:cNvPicPr/>
          <p:nvPr/>
        </p:nvPicPr>
        <p:blipFill>
          <a:blip r:embed="rId1"/>
          <a:stretch/>
        </p:blipFill>
        <p:spPr>
          <a:xfrm>
            <a:off x="1447920" y="1066680"/>
            <a:ext cx="5562360" cy="3303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695160" y="-42840"/>
            <a:ext cx="7790040" cy="1274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533520" y="434340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i sala de telev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 Es blanca  y negro. Mi sala de telev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Vani"/>
              </a:rPr>
              <a:t>ón tiene un mesa negro, una lámpara blanca, una televisión ma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ífico, una estante de libros muy grande, y un sofá blanco con almohadas blancas y neg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y big house"/>
          <p:cNvPicPr/>
          <p:nvPr/>
        </p:nvPicPr>
        <p:blipFill>
          <a:blip r:embed="rId2"/>
          <a:srcRect l="0" t="40955" r="50402" b="12862"/>
          <a:stretch/>
        </p:blipFill>
        <p:spPr>
          <a:xfrm>
            <a:off x="1828800" y="12952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3"/>
          <a:stretch/>
        </p:blipFill>
        <p:spPr>
          <a:xfrm>
            <a:off x="1590840" y="-274680"/>
            <a:ext cx="5376600" cy="1481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57200" y="48769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 Garaje está circa de mi casa. Mi garaje es café y tiene tres coches. Tambien tiene lu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y big house"/>
          <p:cNvPicPr/>
          <p:nvPr/>
        </p:nvPicPr>
        <p:blipFill>
          <a:blip r:embed="rId1"/>
          <a:stretch/>
        </p:blipFill>
        <p:spPr>
          <a:xfrm>
            <a:off x="1523880" y="228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3520" y="4267080"/>
            <a:ext cx="79246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asa de mi s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ño está localizada en Nueva York en Los Estados Unidos. Tiene tres pisos. Mi casa tiene siete dormitorios, una oficina,  salas, una cuarto de musica, una sala de televisión, cuatro ba</a:t>
            </a:r>
            <a:r>
              <a:rPr b="0" lang="en-US" sz="2200" spc="-1" strike="noStrike">
                <a:solidFill>
                  <a:srgbClr val="000000"/>
                </a:solidFill>
                <a:latin typeface="Vani"/>
              </a:rPr>
              <a:t>ño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a yarda muy grande, dos cuartos de sol, un porche, una garaje, una cuarto de lavado, una piscina externo, y una piscina interior. En mi casa vive yo y mis amigas buenas, Ashee y Alea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 rot="20012400">
            <a:off x="311040" y="-154080"/>
            <a:ext cx="615960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6990000"/>
                </a:gradFill>
                <a:latin typeface="Impact"/>
              </a:rPr>
              <a:t>Mi Dormito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6990000"/>
              </a:gradFill>
              <a:latin typeface="Impact"/>
              <a:ea typeface="Impact"/>
            </a:endParaRPr>
          </a:p>
        </p:txBody>
      </p:sp>
      <p:pic>
        <p:nvPicPr>
          <p:cNvPr id="53" name="Picture 10" descr="Awesome-Adorable-And-Cheerful-Trendy-Teenage-Bedroom-Design-Idea-With-Stylish-Blue-Color"/>
          <p:cNvPicPr/>
          <p:nvPr/>
        </p:nvPicPr>
        <p:blipFill>
          <a:blip r:embed="rId1"/>
          <a:srcRect l="2452" t="0" r="0" b="0"/>
          <a:stretch/>
        </p:blipFill>
        <p:spPr>
          <a:xfrm>
            <a:off x="3352680" y="1295280"/>
            <a:ext cx="5454720" cy="4038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57200" y="50292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04920" y="1763640"/>
            <a:ext cx="30477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 dormitorio es en el segundo piso. Es azul y blanco. Tiene una cama con tres almohadas y una manta blanco. Tambien tiene un estante de libros, una lámpara, y un escritorio con una portátil. En mis estantes, son fotos y un rad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1023840" y="66600"/>
            <a:ext cx="703440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www.digsdigs.com/photos/simple-and-colorful-bathroom-desig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143000"/>
            <a:ext cx="4114800" cy="5481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304920" y="1219320"/>
            <a:ext cx="426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 cuarto de 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ño es azul y café. Tiene un contador ca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, dos fregaderos, un retrete, una ducha, y una alfombrilla muy mag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ífica y azul, ca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, y blanca. Tambien tiene un espejo y gabenites blanc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5" descr=""/>
          <p:cNvPicPr/>
          <p:nvPr/>
        </p:nvPicPr>
        <p:blipFill>
          <a:blip r:embed="rId1"/>
          <a:stretch/>
        </p:blipFill>
        <p:spPr>
          <a:xfrm>
            <a:off x="2189160" y="-225360"/>
            <a:ext cx="4589640" cy="12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ig Beautiful Kitchen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990720" y="5257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ocina es muy moderna. Es en el primero piso. Tiene un fregadero, un horno, una nevera, y un con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6" descr=""/>
          <p:cNvPicPr/>
          <p:nvPr/>
        </p:nvPicPr>
        <p:blipFill>
          <a:blip r:embed="rId1"/>
          <a:stretch/>
        </p:blipFill>
        <p:spPr>
          <a:xfrm>
            <a:off x="1901880" y="-171360"/>
            <a:ext cx="4809960" cy="109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beautiful dining room by cattelan Beautiful Dining Room Collection By Cattelan">
            <a:hlinkClick r:id="rId2"/>
          </p:cNvPr>
          <p:cNvPicPr/>
          <p:nvPr/>
        </p:nvPicPr>
        <p:blipFill>
          <a:blip r:embed="rId3"/>
          <a:srcRect l="12386" t="13416" r="0" b="0"/>
          <a:stretch/>
        </p:blipFill>
        <p:spPr>
          <a:xfrm>
            <a:off x="1219320" y="838080"/>
            <a:ext cx="6705360" cy="4078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 comedor es en el primero piso. Tiene una mesa de vidrio, una estante con una lámpara, y dos sillas anaranj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5" descr=""/>
          <p:cNvPicPr/>
          <p:nvPr/>
        </p:nvPicPr>
        <p:blipFill>
          <a:blip r:embed="rId2"/>
          <a:stretch/>
        </p:blipFill>
        <p:spPr>
          <a:xfrm>
            <a:off x="-92160" y="171360"/>
            <a:ext cx="979020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een Room">
            <a:hlinkClick r:id="rId3"/>
          </p:cNvPr>
          <p:cNvPicPr/>
          <p:nvPr/>
        </p:nvPicPr>
        <p:blipFill>
          <a:blip r:embed="rId4"/>
          <a:srcRect l="0" t="10245" r="4694" b="5205"/>
          <a:stretch/>
        </p:blipFill>
        <p:spPr>
          <a:xfrm>
            <a:off x="228600" y="1066680"/>
            <a:ext cx="3809880" cy="375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digsdigs.com/photos/light-blue-bahtroom-desig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267080" y="464832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uarto de b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ño de Aleah. Es azul y blanco. Tiene un espejo, dos fregederos, un retrete blanco, y una b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ñera azul y blanca. Tambien tiene una alfombra de baño blanco y una venta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28600" y="48006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 el dormitorio de Aleah. Es morado y blanco. Tiene dos camas, un gabinite, un estante de libros, un escritorio, una silla, y una ventana.Tambien tiene una alfombra mor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digsdigs.com/photos/bright-blue-bahtroom.jpg"/>
          <p:cNvPicPr/>
          <p:nvPr/>
        </p:nvPicPr>
        <p:blipFill>
          <a:blip r:embed="rId2"/>
          <a:stretch/>
        </p:blipFill>
        <p:spPr>
          <a:xfrm>
            <a:off x="5257800" y="3780000"/>
            <a:ext cx="3657600" cy="281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bedroom-deco-02"/>
          <p:cNvPicPr/>
          <p:nvPr/>
        </p:nvPicPr>
        <p:blipFill>
          <a:blip r:embed="rId3"/>
          <a:stretch/>
        </p:blipFill>
        <p:spPr>
          <a:xfrm>
            <a:off x="304920" y="838080"/>
            <a:ext cx="4495680" cy="311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0" y="396252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el dormitor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mi amiga muy buena, Ashee. Es roja, naranja, y blanca. Tiene una cama rojs, blanca, y naranja, un estante con fotos, un estante de libros, un escritorio, una silla, una lambara, un armario, y una vet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27" descr=""/>
          <p:cNvPicPr/>
          <p:nvPr/>
        </p:nvPicPr>
        <p:blipFill>
          <a:blip r:embed="rId4"/>
          <a:stretch/>
        </p:blipFill>
        <p:spPr>
          <a:xfrm>
            <a:off x="-311040" y="-109440"/>
            <a:ext cx="9759960" cy="1322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8"/>
          <p:cNvSpPr/>
          <p:nvPr/>
        </p:nvSpPr>
        <p:spPr>
          <a:xfrm>
            <a:off x="5029200" y="91440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el baño de Ashee. Es azul y blanco. El baño de Ashee tiene un fregadero, un espejo,  una bañera , y una d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1146240" y="-171360"/>
            <a:ext cx="6718320" cy="109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fabric8.com/11/01/images/music_room.jpg"/>
          <p:cNvPicPr/>
          <p:nvPr/>
        </p:nvPicPr>
        <p:blipFill>
          <a:blip r:embed="rId2"/>
          <a:stretch/>
        </p:blipFill>
        <p:spPr>
          <a:xfrm>
            <a:off x="1752480" y="990720"/>
            <a:ext cx="503712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533520" y="4876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 mi sala de musica. Tiene  tres guitarras, un piano, un sofá café, y batería. Tambien tiene una ventana muy grande y fotos en el 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5:40Z</dcterms:created>
  <dc:creator>francisanspacholi</dc:creator>
  <dc:description/>
  <dc:language>en-US</dc:language>
  <cp:lastModifiedBy>Computer</cp:lastModifiedBy>
  <dcterms:modified xsi:type="dcterms:W3CDTF">2012-05-25T00:59:50Z</dcterms:modified>
  <cp:revision>31</cp:revision>
  <dc:subject/>
  <dc:title>Slide 1</dc:title>
</cp:coreProperties>
</file>